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2AF-5655-4588-8411-3F999F2F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315-DC12-4BF1-BB79-6E403122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C96-8FF8-4F88-B791-912F1B2B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2F0-6086-4104-AC90-80D1E268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AD0-7C93-46CA-B63A-B7494BDA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FF9-B54A-4D69-951F-D8257D29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A86-3BD8-497C-BB0E-A03DC31F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B0B-BD8A-4148-A49F-5115BAE8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B40-E751-4723-B4D1-FB019AA6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959-AE72-49D6-997F-18469B47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76E-F79B-4D16-A21E-18A85E80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822-A054-4EEB-9CCD-0B2AAF7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00C3-6A54-4B0D-BC89-08CFCA555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Google logo is clean water for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0840" y="914400"/>
            <a:ext cx="872316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 Water For The Worl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52:51Z</dcterms:created>
  <dc:creator>Computer Lab</dc:creator>
  <dc:description/>
  <dc:language>en-US</dc:language>
  <cp:lastModifiedBy>Computer Lab</cp:lastModifiedBy>
  <dcterms:modified xsi:type="dcterms:W3CDTF">2009-03-12T15:41:14Z</dcterms:modified>
  <cp:revision>1</cp:revision>
  <dc:subject/>
  <dc:title>  “Clean Water For The World”</dc:title>
</cp:coreProperties>
</file>